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7F0C-68F2-4151-AA2C-369A3FBC0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2292-B458-41F2-8CED-231095A37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0486-D19E-4AAB-9FE6-9CD04087E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4D21-8B26-40C2-BA85-DA25F78E5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6287-ED1D-4A0E-A711-503D7C1D5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EDDA-3094-4CE2-9AC8-208FE7E3F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AABB-F623-4BB4-80BF-6F15B2E52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920E-D98B-4FE9-BB58-7A8522FD9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103-E2D3-4146-9009-3B71C900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466-C9DB-46FF-8D74-7D6431D2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011-DAAE-4B29-AB69-00681F24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0B7-A139-4D53-9476-1D730E94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8CD5-4B21-4495-B460-6F819283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C0AB-20EB-4BF8-A382-29288973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B9F-AF17-4B0E-A411-F77A5F8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6D4C-D073-45DC-8983-8B25E749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BD48-5200-48C7-981C-0596A918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F53D-23D2-428E-8A6D-BD599852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6FAA-8156-4CDF-A63E-DEF7986B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E1E-9E9D-42FA-84C6-56A07228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9A77-9D2D-44C2-8EE1-2F2F8886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56BC-5259-414B-AA41-278A98A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E00B-1EC9-4C0B-B359-8C0A2344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622B-801A-4E08-ABE6-7E12E0D6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5E41-D8C8-4E9F-99A8-6C7FD72E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E653-71CE-4163-9891-68802544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A01F1-D748-4DB8-A2F3-A151528B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BC42-BF19-49E1-9FB5-76F62C5F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DF04-259F-475B-889E-679650B4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70DC-2830-4DF0-B32E-BFE3B99F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23A-4A1C-4A75-AC45-442ED7C7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0DD54-AB55-4D82-B1D1-C7B800BF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2345-5799-4AFC-90E2-65BF58FF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231C-1E5D-4481-922F-5616B85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880A4-3DEE-4188-96B2-AE6318F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E4E65-8C37-4027-A9F6-5F67CE60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14A00-0DC5-43C9-923F-42E91A30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C619-5626-4B08-9855-BD5882D0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2204-6131-4D58-9703-79B82BAB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76A64-E69A-436E-86DF-06C14B3E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26E0-BC84-4537-9F04-3247A066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4F5-8AF1-4FCC-A322-83C62D8F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829A-4175-426F-9F6C-A850A7C5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E36C7-B824-4C63-989C-7A6D7FA4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50DA-9D0B-4342-84FA-6DD2DD81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FC80-A5C1-413A-BC14-DA590657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1F6CE-24BD-4130-BD9B-588421E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28469-0098-44D1-AC1C-DD2015E5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B8B94-8DFA-4138-BC98-575E22C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F9D56-6AEC-4FED-AA56-EFED8234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D5E46-9913-44DB-85B9-54C2A405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4D87-F51D-4070-ACBB-EC92A095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F9A-17C0-4F88-8803-ACA1078F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95FB3-017A-443C-85BA-B7770E13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F9106-F87F-47A5-8A00-CD50DBCC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6BC8-9C4E-4CFE-BC96-B673B1C7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D1448-2123-450E-BF95-DCBC4CE7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8A7B-EEDF-41D0-A31D-2FB4BFB0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4F7D-F627-4350-85E8-14478981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8F47B-0E10-49BC-8E06-3231A72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B64A5-9E34-466B-BC72-B7F94905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F9E2-37D7-4A30-A21C-D6BC993E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6295-7739-4C15-BE53-84C4AA24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BA0-CA8B-4131-A169-C9B6AECE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2253-97D8-4FFA-8855-AA2490AA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244B-4603-4CAC-919F-332B3EF9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F2764-4835-4E28-BFAC-60D5F682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203CD-3C61-42A9-B70C-C4D24F0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E7245-0147-4E42-959C-EDDFB27B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0B84-E51D-448F-A1DB-326B3BFF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272B-5F29-4B84-A17F-91FE9B10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AB2B6-73F7-47A8-97DD-3BCA52D7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21F61-9322-49C9-8052-46D5B29C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952BF-AB76-4B49-9A5B-28DDF8C8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B22-2578-4E56-8D78-35EFBAE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B680-9122-4B98-8758-C848B0F5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92A45-E528-4ABD-BD16-D61BDD17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2770A-E1BC-4DB0-BA2B-5F4234DD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7850A-DFCC-4290-B8E4-947A08A6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7E7A2-A51B-44A5-AE56-B0409BF9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379AA-F404-47AB-BE6A-F66140E8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74FA1-900A-4556-AD76-9F8EA200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260C-7038-49B2-88B2-BF1DB818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5033-5A32-4256-AD2C-4DB889AC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B75FA-096C-4156-ABF1-920AABFD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EF3-627C-4DD4-8965-A444AD0D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2520E-0DBF-4F6B-8953-0F143E38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CAD74-FEA7-4626-BE72-1F94F47C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E6C7B-68B6-497F-856A-D69AABB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5F990-E5A7-4101-8B8B-36729934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6140E-6DAD-4FDA-9BEF-3ED7C63D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C80-B9A4-490A-8C9E-9E5210E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7C65-9A16-4FE2-A87D-FAFCF1EDD1D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3293-AA52-4DB4-B341-72ADA2625B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FEFF-365A-47D4-8A7F-398D07C2F2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0191-B2D9-4D6C-A270-D40C4FBCFA4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E73F-F04F-4E80-A922-321992169C7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89E0-F009-4570-8D8B-A93C2C93311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FBBB-ECD2-440A-9ABC-895F3F577CC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Image:Sigmund_Freud-loc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-6480" y="96840"/>
            <a:ext cx="5578560" cy="1128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Photo of Sigmund Freud, 19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523880"/>
            <a:ext cx="1904760" cy="2629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Carl Jung"/>
          <p:cNvPicPr/>
          <p:nvPr/>
        </p:nvPicPr>
        <p:blipFill>
          <a:blip r:embed="rId4"/>
          <a:stretch/>
        </p:blipFill>
        <p:spPr>
          <a:xfrm>
            <a:off x="4572000" y="4724280"/>
            <a:ext cx="2133720" cy="189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adler"/>
          <p:cNvPicPr/>
          <p:nvPr/>
        </p:nvPicPr>
        <p:blipFill>
          <a:blip r:embed="rId5"/>
          <a:stretch/>
        </p:blipFill>
        <p:spPr>
          <a:xfrm>
            <a:off x="6858000" y="4572000"/>
            <a:ext cx="1878120" cy="2133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horney"/>
          <p:cNvPicPr/>
          <p:nvPr/>
        </p:nvPicPr>
        <p:blipFill>
          <a:blip r:embed="rId6"/>
          <a:stretch/>
        </p:blipFill>
        <p:spPr>
          <a:xfrm>
            <a:off x="4800600" y="1600200"/>
            <a:ext cx="1673280" cy="26668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609480" y="464832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agree with you on some things, Freud, but not all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1"/>
          <p:cNvSpPr/>
          <p:nvPr/>
        </p:nvSpPr>
        <p:spPr>
          <a:xfrm flipV="1">
            <a:off x="2362320" y="2133720"/>
            <a:ext cx="5331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895480" y="1447920"/>
            <a:ext cx="152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d4d6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d4d4d6"/>
                </a:solidFill>
                <a:latin typeface="Verdana"/>
              </a:rPr>
              <a:t>You fools, I am always right! I am the great Sigmund Freud!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http://emilyagnes.tripod.com/sitebuildercontent/sitebuilderpictures/erik.gif"/>
          <p:cNvPicPr/>
          <p:nvPr/>
        </p:nvPicPr>
        <p:blipFill>
          <a:blip r:embed="rId7"/>
          <a:stretch/>
        </p:blipFill>
        <p:spPr>
          <a:xfrm>
            <a:off x="6934320" y="1406520"/>
            <a:ext cx="1904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e personality structures of id, ego, supereg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e importance of the unconscio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e shaping of personality in childho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e dynamics of anxiety and the defense mechanism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More of an emphasis on the role of the conscious mind in interpreting experience and coping with the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at sex and aggression are all-consuming motiv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-360" y="144792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Two levels of unconsciou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Personal and collectiv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rchetypes—common thought forms in all huma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odifies id, ego, superego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stead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Persona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-A shell that grows around our inner self. 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A “mask”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s the image that we present to others.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 (like the poem!!!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elf—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Underlies persona and is who you really are, which can be quite different from person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hadow—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Dark side of personality (Freud’s Id)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troverts v Extroverts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6378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5" descr="Carl Jung"/>
          <p:cNvPicPr/>
          <p:nvPr/>
        </p:nvPicPr>
        <p:blipFill>
          <a:blip r:embed="rId2"/>
          <a:stretch/>
        </p:blipFill>
        <p:spPr>
          <a:xfrm>
            <a:off x="6477120" y="2928960"/>
            <a:ext cx="26668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Focused on </a:t>
            </a:r>
            <a:r>
              <a:rPr b="0" i="1" lang="en-US" sz="2800" spc="-1" strike="noStrike">
                <a:solidFill>
                  <a:srgbClr val="5a6378"/>
                </a:solidFill>
                <a:latin typeface="Corbel"/>
              </a:rPr>
              <a:t>compensation</a:t>
            </a: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 instead of conflic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Believed we possess innate positive motives and goals for ourselv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Inferiority Complex”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Overall, positive outlook on human personalit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5" descr="adler"/>
          <p:cNvPicPr/>
          <p:nvPr/>
        </p:nvPicPr>
        <p:blipFill>
          <a:blip r:embed="rId3"/>
          <a:stretch/>
        </p:blipFill>
        <p:spPr>
          <a:xfrm>
            <a:off x="6477120" y="2514600"/>
            <a:ext cx="2520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362320" y="159984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agreed with Freud on several topics, especially sex and role of wom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re of an emphasis on social relationships and environ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udies anxiety and its role in development of person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eurotic tren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mission, Aggression, Detach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5" descr="horney"/>
          <p:cNvPicPr/>
          <p:nvPr/>
        </p:nvPicPr>
        <p:blipFill>
          <a:blip r:embed="rId3"/>
          <a:stretch/>
        </p:blipFill>
        <p:spPr>
          <a:xfrm>
            <a:off x="228600" y="1828800"/>
            <a:ext cx="2103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0020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greed that lifetime social factors are more important in determining adult personalit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veloped psychosocial theo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ight life stages with a life crisis/social conflict in 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lieves personality shapes and changes as life progress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cket pages 15/16 will help us understand each stage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http://emilyagnes.tripod.com/sitebuildercontent/sitebuilderpictures/erik.gif"/>
          <p:cNvPicPr/>
          <p:nvPr/>
        </p:nvPicPr>
        <p:blipFill>
          <a:blip r:embed="rId2"/>
          <a:stretch/>
        </p:blipFill>
        <p:spPr>
          <a:xfrm>
            <a:off x="6673680" y="2057400"/>
            <a:ext cx="2470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do you think of the psychosocial stages in comparison to the psychosexual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nk about the stage you are in right now (IDENTITY  V.  ROLE CONFUSION). Do you personally identify with this stage? How are you doing with the “crisis” it presents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Displaying longer than average reaction time to a stimulus w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peating the stimulus word back as a respons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Failing to respond at al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Using expressive bodily reactions e.g. laughing, touching ski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Stammering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ontinuing to respond to a previous w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acting meaninglessly e.g. with made up word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acting superficially with a word that sounds like the stimulus word (e.g. die-lie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sponding with more than one w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Misunderstanding the stimulus as some other w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1:12:29Z</dcterms:created>
  <dc:creator> </dc:creator>
  <dc:description/>
  <dc:language>en-US</dc:language>
  <cp:lastModifiedBy>John Hampton</cp:lastModifiedBy>
  <dcterms:modified xsi:type="dcterms:W3CDTF">2012-04-03T12:20:51Z</dcterms:modified>
  <cp:revision>25</cp:revision>
  <dc:subject/>
  <dc:title>Neo-Freudians </dc:title>
</cp:coreProperties>
</file>